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49.png" ContentType="image/pn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28.jpeg" ContentType="image/jpeg"/>
  <Override PartName="/ppt/media/image18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24.gif" ContentType="image/gif"/>
  <Override PartName="/ppt/media/image32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9.jpeg" ContentType="image/jpeg"/>
  <Override PartName="/ppt/media/image7.gif" ContentType="image/gif"/>
  <Override PartName="/ppt/media/image39.jpeg" ContentType="image/jpeg"/>
  <Override PartName="/ppt/media/image45.jpeg" ContentType="image/jpeg"/>
  <Override PartName="/ppt/media/image44.jpeg" ContentType="image/jpeg"/>
  <Override PartName="/ppt/media/image38.jpeg" ContentType="image/jpeg"/>
  <Override PartName="/ppt/media/image54.wmf" ContentType="image/x-wmf"/>
  <Override PartName="/ppt/media/image31.gif" ContentType="image/gif"/>
  <Override PartName="/ppt/media/image17.wmf" ContentType="image/x-wmf"/>
  <Override PartName="/ppt/media/image46.wmf" ContentType="image/x-wmf"/>
  <Override PartName="/ppt/media/image48.jpeg" ContentType="image/jpeg"/>
  <Override PartName="/ppt/media/image50.png" ContentType="image/png"/>
  <Override PartName="/ppt/media/image37.jpeg" ContentType="image/jpeg"/>
  <Override PartName="/ppt/media/image8.wmf" ContentType="image/x-wmf"/>
  <Override PartName="/ppt/media/image51.png" ContentType="image/png"/>
  <Override PartName="/ppt/media/image9.wmf" ContentType="image/x-wmf"/>
  <Override PartName="/ppt/media/image53.wmf" ContentType="image/x-wmf"/>
  <Override PartName="/ppt/media/image36.wmf" ContentType="image/x-wmf"/>
  <Override PartName="/ppt/media/image47.jpeg" ContentType="image/jpeg"/>
  <Override PartName="/ppt/media/image34.jpeg" ContentType="image/jpeg"/>
  <Override PartName="/ppt/media/image33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11.png" ContentType="image/png"/>
  <Override PartName="/ppt/media/image19.jpeg" ContentType="image/jpeg"/>
  <Override PartName="/ppt/media/image26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42.gif" ContentType="image/gif"/>
  <Override PartName="/ppt/media/image4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55F5-77A5-4154-82B4-2C301C93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5A9C-C318-4F6F-8DCD-298BA540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28F5-0368-44A0-882F-B205D4B0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7CEB-C49E-4902-8F27-43CDCCD3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8D65-2D3B-43AF-AE10-D76AE145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9ABA-83FC-4B31-B36E-E5DBF068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605A-030B-417D-B1C4-427A7AFA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4928-7AFD-4076-87C2-46622634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0D4D-C6E8-4241-BE9A-EE65BADE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5961-6535-44C2-BB09-6605051F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C15B-4EDC-4BC9-8078-11A63217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DA9E-1841-457F-A4D4-F451C646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AAD3-CA87-4586-99AD-5B8F7D8E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B085-2291-4068-9C89-9297244B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47D7-6E83-4E44-AFE5-3827589B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D51D-53F9-4D1F-A4E1-DD45FB28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E94D-277F-4973-8BFA-C0AF6835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E414-E137-45FA-8CB6-E7BFD78A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4F85-FD66-41E5-88C8-0FFF0284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C416-88A8-47DE-97AA-131D8FF0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8177-D289-413F-973D-D5ADA06A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41CD-3799-4D7F-9A34-D389FC33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EE93-9CB5-47D9-945E-6CFBFCEB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DDCC-0114-4877-B807-E6396164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04920"/>
            <a:ext cx="9144000" cy="6858000"/>
            <a:chOff x="0" y="30492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304920"/>
              <a:ext cx="9144000" cy="6858000"/>
              <a:chOff x="0" y="30492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609840"/>
                <a:ext cx="9144000" cy="6400800"/>
                <a:chOff x="0" y="60984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6098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5242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4386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3530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42674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51818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60962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70106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304920"/>
                <a:ext cx="8534160" cy="6858000"/>
                <a:chOff x="304920" y="30492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3049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30492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30492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720800"/>
              <a:ext cx="1784160" cy="2324160"/>
              <a:chOff x="414360" y="172080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8183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72404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72080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E7B1-95CE-463E-BEEF-7066AA884C9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E06E-C601-4D92-BAB4-B3649470D6D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4419720" y="6248520"/>
            <a:ext cx="304560" cy="45720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413">
                <a:moveTo>
                  <a:pt x="0" y="0"/>
                </a:moveTo>
                <a:lnTo>
                  <a:pt x="21600" y="0"/>
                </a:lnTo>
                <a:lnTo>
                  <a:pt x="21600" y="32413"/>
                </a:lnTo>
                <a:lnTo>
                  <a:pt x="0" y="32413"/>
                </a:lnTo>
                <a:close/>
              </a:path>
              <a:path fill="lightenLess" w="21600" h="324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13">
                <a:moveTo>
                  <a:pt x="21600" y="0"/>
                </a:moveTo>
                <a:lnTo>
                  <a:pt x="21600" y="32413"/>
                </a:lnTo>
                <a:lnTo>
                  <a:pt x="20200" y="31013"/>
                </a:lnTo>
                <a:lnTo>
                  <a:pt x="20200" y="1400"/>
                </a:lnTo>
                <a:close/>
              </a:path>
              <a:path fill="darkenLess" w="21600" h="32413">
                <a:moveTo>
                  <a:pt x="21600" y="32413"/>
                </a:moveTo>
                <a:lnTo>
                  <a:pt x="0" y="32413"/>
                </a:lnTo>
                <a:lnTo>
                  <a:pt x="1400" y="31013"/>
                </a:lnTo>
                <a:lnTo>
                  <a:pt x="20200" y="31013"/>
                </a:lnTo>
                <a:close/>
              </a:path>
              <a:path fill="lighten" w="21600" h="32413">
                <a:moveTo>
                  <a:pt x="0" y="32413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13"/>
                </a:lnTo>
                <a:close/>
              </a:path>
              <a:path fill="darken" w="21600" h="32413">
                <a:moveTo>
                  <a:pt x="10800" y="9243"/>
                </a:moveTo>
                <a:lnTo>
                  <a:pt x="13376" y="11855"/>
                </a:lnTo>
                <a:lnTo>
                  <a:pt x="13376" y="10114"/>
                </a:lnTo>
                <a:lnTo>
                  <a:pt x="15152" y="10114"/>
                </a:lnTo>
                <a:lnTo>
                  <a:pt x="15152" y="13630"/>
                </a:lnTo>
                <a:lnTo>
                  <a:pt x="17763" y="16206"/>
                </a:lnTo>
                <a:lnTo>
                  <a:pt x="16109" y="16206"/>
                </a:lnTo>
                <a:lnTo>
                  <a:pt x="16109" y="23396"/>
                </a:lnTo>
                <a:lnTo>
                  <a:pt x="5491" y="23396"/>
                </a:lnTo>
                <a:lnTo>
                  <a:pt x="5491" y="16206"/>
                </a:lnTo>
                <a:lnTo>
                  <a:pt x="3837" y="16206"/>
                </a:lnTo>
                <a:close/>
              </a:path>
              <a:path fill="darkenLess" w="21600" h="32413">
                <a:moveTo>
                  <a:pt x="13376" y="11855"/>
                </a:moveTo>
                <a:lnTo>
                  <a:pt x="13376" y="10114"/>
                </a:lnTo>
                <a:lnTo>
                  <a:pt x="15152" y="10114"/>
                </a:lnTo>
                <a:lnTo>
                  <a:pt x="15152" y="13630"/>
                </a:lnTo>
                <a:close/>
              </a:path>
              <a:path fill="darkenLess" w="21600" h="32413">
                <a:moveTo>
                  <a:pt x="9877" y="19705"/>
                </a:moveTo>
                <a:lnTo>
                  <a:pt x="11723" y="19705"/>
                </a:lnTo>
                <a:lnTo>
                  <a:pt x="11723" y="23396"/>
                </a:lnTo>
                <a:lnTo>
                  <a:pt x="16109" y="23396"/>
                </a:lnTo>
                <a:lnTo>
                  <a:pt x="16109" y="16206"/>
                </a:lnTo>
                <a:lnTo>
                  <a:pt x="5491" y="16206"/>
                </a:lnTo>
                <a:lnTo>
                  <a:pt x="5491" y="23396"/>
                </a:lnTo>
                <a:lnTo>
                  <a:pt x="9877" y="23396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4114800" y="624852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3794" y="16187"/>
                </a:moveTo>
                <a:lnTo>
                  <a:pt x="17806" y="9181"/>
                </a:lnTo>
                <a:lnTo>
                  <a:pt x="17806" y="2319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4724280" y="624852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3794" y="9181"/>
                </a:moveTo>
                <a:lnTo>
                  <a:pt x="17806" y="16187"/>
                </a:lnTo>
                <a:lnTo>
                  <a:pt x="3794" y="2319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image" Target="../media/image24.gif"/><Relationship Id="rId7" Type="http://schemas.openxmlformats.org/officeDocument/2006/relationships/hyperlink" Target="http://images.google.com/imgres?imgurl=http://www.wehug.com/Brass-sitting-kuan-yin-on-hand-47501b.jpg&amp;imgrefurl=http://www.wehug.com/kuan-yin-quan-yin.html&amp;h=474&amp;w=421&amp;sz=34&amp;tbnid=ySYuanabbrwJ:&amp;tbnh=126&amp;tbnw=111&amp;hl=en&amp;start=6&amp;prev=/images%3Fq%3Dbrass%26svnum%3D10%26hl%3Den%26lr%3D%26ie%3DUTF-8" TargetMode="External"/><Relationship Id="rId8" Type="http://schemas.openxmlformats.org/officeDocument/2006/relationships/image" Target="../media/image25.jpeg"/><Relationship Id="rId9" Type="http://schemas.openxmlformats.org/officeDocument/2006/relationships/hyperlink" Target="http://images.google.com/imgres?imgurl=http://science.nasa.gov/headlines/y2003/images/zeroglass/10501531.jpg&amp;imgrefurl=http://science.nasa.gov/headlines/y2003/14apr_zeroglass.htm&amp;h=432&amp;w=640&amp;sz=29&amp;tbnid=oKKxQ9M2c8YJ:&amp;tbnh=91&amp;tbnw=135&amp;hl=en&amp;start=3&amp;prev=/images%3Fq%3Dglass%26svnum%3D10%26hl%3Den%26lr%3D%26ie%3DUTF-8" TargetMode="External"/><Relationship Id="rId10" Type="http://schemas.openxmlformats.org/officeDocument/2006/relationships/image" Target="../media/image26.jpeg"/><Relationship Id="rId11" Type="http://schemas.openxmlformats.org/officeDocument/2006/relationships/hyperlink" Target="http://images.google.com/imgres?imgurl=http://thinks.com/jigsaw/buildings/glass.jpg&amp;imgrefurl=http://thinks.com/cgi-bin/jigsaw.pl%3Fpuzz%3D/buildings/glass&amp;h=313&amp;w=400&amp;sz=16&amp;tbnid=ocJzpzfyOY8J:&amp;tbnh=93&amp;tbnw=120&amp;hl=en&amp;start=47&amp;prev=/images%3Fq%3Dglass%26start%3D40%26svnum%3D10%26hl%3Den%26lr%3D%26ie%3DUTF-8%26sa%3DN" TargetMode="External"/><Relationship Id="rId12" Type="http://schemas.openxmlformats.org/officeDocument/2006/relationships/image" Target="../media/image27.jpe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images.google.com/imgres?imgurl=http://www.supereggplant.com/archives/pu%2520erh%2520tea.JPG&amp;imgrefurl=http://www.supereggplant.com/archives/2004_07.html&amp;h=480&amp;w=640&amp;sz=53&amp;tbnid=r1fv_j0JFOYJ:&amp;tbnh=101&amp;tbnw=135&amp;hl=en&amp;start=2&amp;prev=/images%3Fq%3Dtea%26svnum%3D10%26hl%3Den%26lr%3D%26ie%3DUTF-8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images.google.com/imgres?imgurl=http://www.msu.edu/~ngszelin/Carbon_Dioxide.jpg&amp;imgrefurl=http://www.msu.edu/~ngszelin/calvin_cycle_players.htm&amp;h=480&amp;w=640&amp;sz=53&amp;tbnid=wbFWNaJ4SF0J:&amp;tbnh=101&amp;tbnw=135&amp;hl=en&amp;start=1&amp;prev=/images%3Fq%3Dcarbon%2Bdioxide%26svnum%3D10%26hl%3Den%26lr%3D%26ie%3DUTF-8" TargetMode="External"/><Relationship Id="rId5" Type="http://schemas.openxmlformats.org/officeDocument/2006/relationships/image" Target="../media/image29.jpeg"/><Relationship Id="rId6" Type="http://schemas.openxmlformats.org/officeDocument/2006/relationships/slide" Target="slide6.xml"/><Relationship Id="rId7" Type="http://schemas.openxmlformats.org/officeDocument/2006/relationships/slide" Target="slide9.xml"/><Relationship Id="rId8" Type="http://schemas.openxmlformats.org/officeDocument/2006/relationships/slide" Target="slide12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6.xml"/><Relationship Id="rId3" Type="http://schemas.openxmlformats.org/officeDocument/2006/relationships/hyperlink" Target="http://images.google.com/imgres?imgurl=http://www.sweetconnections.com/images/rock-candy.jpg&amp;imgrefurl=http://www.sweetconnections.com/kids_treats.htm&amp;h=489&amp;w=600&amp;sz=17&amp;tbnid=TzR2s9RYVoEJ:&amp;tbnh=108&amp;tbnw=133&amp;hl=en&amp;start=3&amp;prev=/images%3Fq%3Drock%2Bcandy%26svnum%3D10%26hl%3Den%26lr%3D%26ie%3DUTF-8" TargetMode="External"/><Relationship Id="rId4" Type="http://schemas.openxmlformats.org/officeDocument/2006/relationships/image" Target="../media/image30.jpeg"/><Relationship Id="rId5" Type="http://schemas.openxmlformats.org/officeDocument/2006/relationships/image" Target="../media/image31.gif"/><Relationship Id="rId6" Type="http://schemas.openxmlformats.org/officeDocument/2006/relationships/hyperlink" Target="http://images.google.com/imgres?imgurl=http://www.undr.com/portfolio/logotypes/gasoline.gif&amp;imgrefurl=http://www.undr.com/portfolio/logotypes/index.cfm&amp;h=223&amp;w=360&amp;sz=3&amp;tbnid=WuyZGpOZkhUJ:&amp;tbnh=72&amp;tbnw=117&amp;hl=en&amp;start=4&amp;prev=/images%3Fq%3Dgasoline%26svnum%3D10%26hl%3Den%26lr%3D%26ie%3DUTF-8" TargetMode="External"/><Relationship Id="rId7" Type="http://schemas.openxmlformats.org/officeDocument/2006/relationships/image" Target="../media/image32.jpe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" Target="slide15.xml"/><Relationship Id="rId7" Type="http://schemas.openxmlformats.org/officeDocument/2006/relationships/hyperlink" Target="http://images.google.com/imgres?imgurl=http://www.indigo.com/models/gphmodel/sodium-chloride-model-M.jpg&amp;imgrefurl=http://www.saltinstitute.org/15.html&amp;h=475&amp;w=450&amp;sz=32&amp;tbnid=ycB1puwYPcoJ:&amp;tbnh=126&amp;tbnw=119&amp;hl=en&amp;start=8&amp;prev=/images%3Fq%3Dsalt%26svnum%3D10%26hl%3Den%26lr%3D%26ie%3DUTF-8" TargetMode="External"/><Relationship Id="rId8" Type="http://schemas.openxmlformats.org/officeDocument/2006/relationships/image" Target="../media/image33.jpeg"/><Relationship Id="rId9" Type="http://schemas.openxmlformats.org/officeDocument/2006/relationships/hyperlink" Target="http://images.google.com/imgres?imgurl=http://www.rkm.com.au/imagelibrary/thumbnails/cabon-dioxide-blue-150.jpg&amp;imgrefurl=http://www.rkm.com.au/imagelibrary/&amp;h=150&amp;w=150&amp;sz=6&amp;tbnid=Kw-TmCyzI6gJ:&amp;tbnh=90&amp;tbnw=90&amp;hl=en&amp;start=1&amp;prev=/images%3Fq%3Dcabon%2Bdioxide%26svnum%3D10%26hl%3Den%26lr%3D%26ie%3DUTF-8" TargetMode="External"/><Relationship Id="rId10" Type="http://schemas.openxmlformats.org/officeDocument/2006/relationships/image" Target="../media/image34.jpeg"/><Relationship Id="rId11" Type="http://schemas.openxmlformats.org/officeDocument/2006/relationships/hyperlink" Target="http://images.google.com/imgres?imgurl=http://www.greenberryhouse.com/GBH-B-28.jpg&amp;imgrefurl=http://www.greenberryhouse.com/bottles.htm&amp;h=575&amp;w=320&amp;sz=27&amp;tbnid=gylgKCY34bsJ:&amp;tbnh=132&amp;tbnw=73&amp;hl=en&amp;start=20&amp;prev=/images%3Fq%3Dsilver%2Bnitrate%26svnum%3D10%26hl%3Den%26lr%3D%26ie%3DUTF-8" TargetMode="External"/><Relationship Id="rId12" Type="http://schemas.openxmlformats.org/officeDocument/2006/relationships/image" Target="../media/image35.jpeg"/><Relationship Id="rId1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" Target="slide2.xml"/><Relationship Id="rId4" Type="http://schemas.openxmlformats.org/officeDocument/2006/relationships/image" Target="../media/image18.png"/><Relationship Id="rId5" Type="http://schemas.openxmlformats.org/officeDocument/2006/relationships/hyperlink" Target="http://images.google.com/imgres?imgurl=http://www.lenntech.com/images/Water%2520molecule.jpg&amp;imgrefurl=http://www.lenntech.com/italiano/FAQ-chimica-acqua.htm&amp;h=198&amp;w=235&amp;sz=5&amp;tbnid=MnLgzZa7RwUJ:&amp;tbnh=87&amp;tbnw=104&amp;hl=en&amp;start=2&amp;prev=/images%3Fq%3Dwater%2Bmolecule%26svnum%3D10%26hl%3Den%26lr%3D%26ie%3DUTF-8" TargetMode="External"/><Relationship Id="rId6" Type="http://schemas.openxmlformats.org/officeDocument/2006/relationships/image" Target="../media/image37.jpeg"/><Relationship Id="rId7" Type="http://schemas.openxmlformats.org/officeDocument/2006/relationships/hyperlink" Target="http://images.google.com/imgres?imgurl=http://www.lenntech.com/images/Water%2520molecule.jpg&amp;imgrefurl=http://www.lenntech.com/italiano/FAQ-chimica-acqua.htm&amp;h=198&amp;w=235&amp;sz=5&amp;tbnid=MnLgzZa7RwUJ:&amp;tbnh=87&amp;tbnw=104&amp;hl=en&amp;start=2&amp;prev=/images%3Fq%3Dwater%2Bmolecule%26svnum%3D10%26hl%3Den%26lr%3D%26ie%3DUTF-8" TargetMode="External"/><Relationship Id="rId8" Type="http://schemas.openxmlformats.org/officeDocument/2006/relationships/image" Target="../media/image37.jpeg"/><Relationship Id="rId9" Type="http://schemas.openxmlformats.org/officeDocument/2006/relationships/hyperlink" Target="http://images.google.com/imgres?imgurl=http://www.lenntech.com/images/Water%2520molecule.jpg&amp;imgrefurl=http://www.lenntech.com/italiano/FAQ-chimica-acqua.htm&amp;h=198&amp;w=235&amp;sz=5&amp;tbnid=MnLgzZa7RwUJ:&amp;tbnh=87&amp;tbnw=104&amp;hl=en&amp;start=2&amp;prev=/images%3Fq%3Dwater%2Bmolecule%26svnum%3D10%26hl%3Den%26lr%3D%26ie%3DUTF-8" TargetMode="External"/><Relationship Id="rId10" Type="http://schemas.openxmlformats.org/officeDocument/2006/relationships/image" Target="../media/image37.jpeg"/><Relationship Id="rId11" Type="http://schemas.openxmlformats.org/officeDocument/2006/relationships/hyperlink" Target="http://images.google.com/imgres?imgurl=http://www.du.edu/~jcalvert/phys/bucky.jpg&amp;imgrefurl=http://www.du.edu/~jcalvert/phys/carbon.htm&amp;h=290&amp;w=300&amp;sz=34&amp;tbnid=272693lkxZ0J:&amp;tbnh=107&amp;tbnw=111&amp;hl=en&amp;start=3&amp;prev=/images%3Fq%3Dcarbon%2Bmolecule%26svnum%3D10%26hl%3Den%26lr%3D%26ie%3DUTF-8" TargetMode="External"/><Relationship Id="rId12" Type="http://schemas.openxmlformats.org/officeDocument/2006/relationships/image" Target="../media/image38.jpeg"/><Relationship Id="rId13" Type="http://schemas.openxmlformats.org/officeDocument/2006/relationships/slide" Target="slide4.xml"/><Relationship Id="rId14" Type="http://schemas.openxmlformats.org/officeDocument/2006/relationships/slide" Target="slide2.xml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images.google.com/imgres?imgurl=http://www.webelements.com/webelements/elements/media/element-pics/O.jpg&amp;imgrefurl=http://www.webelements.com/webelements/elements/text/O/key.html&amp;h=240&amp;w=320&amp;sz=14&amp;tbnid=-AIPrNbluKUJ:&amp;tbnh=84&amp;tbnw=113&amp;hl=en&amp;start=2&amp;prev=/images%3Fq%3Doxygen%26svnum%3D10%26hl%3Den%26lr%3D%26ie%3DUTF-8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images.google.com/imgres?imgurl=http://www.singers.com/barbershop/barbershopimages/ACGoldPure200.gif&amp;imgrefurl=http://www.singers.com/barbershop/acappellagold.html&amp;h=200&amp;w=200&amp;sz=12&amp;tbnid=x-XCQrZwXfUJ:&amp;tbnh=99&amp;tbnw=99&amp;hl=en&amp;start=6&amp;prev=/images%3Fq%3Dpure%2Bgold%26svnum%3D10%26hl%3Den%26lr%3D%26ie%3DUTF-8" TargetMode="External"/><Relationship Id="rId6" Type="http://schemas.openxmlformats.org/officeDocument/2006/relationships/image" Target="../media/image40.jpeg"/><Relationship Id="rId7" Type="http://schemas.openxmlformats.org/officeDocument/2006/relationships/hyperlink" Target="http://images.google.com/imgres?imgurl=http://nobel.scas.bcit.ca/chem0010/unit4/images/h2.gif&amp;imgrefurl=http://nobel.scas.bcit.ca/chem0010/unit4/npcov.htm&amp;h=200&amp;w=275&amp;sz=7&amp;tbnid=K6xVCx-JRFoJ:&amp;tbnh=79&amp;tbnw=109&amp;hl=en&amp;start=2&amp;prev=/images%3Fq%3Dhydrogen%2Bmolecule%26svnum%3D10%26hl%3Den%26lr%3D%26ie%3DUTF-8" TargetMode="External"/><Relationship Id="rId8" Type="http://schemas.openxmlformats.org/officeDocument/2006/relationships/image" Target="../media/image41.jpeg"/><Relationship Id="rId9" Type="http://schemas.openxmlformats.org/officeDocument/2006/relationships/image" Target="../media/image42.gif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images.google.com/imgres?imgurl=http://www.nyu.edu/pages/mathmol/modules/carbon/diamond_left.gif&amp;imgrefurl=http://www.nyu.edu/pages/mathmol/txtbk2/topic5.htm&amp;h=241&amp;w=282&amp;sz=15&amp;tbnid=SFbhYO4bSTYJ:&amp;tbnh=94&amp;tbnw=110&amp;hl=en&amp;start=20&amp;prev=/images%3Fq%3Dcarbon%26svnum%3D10%26hl%3Den%26lr%3D%26ie%3DUTF-8" TargetMode="External"/><Relationship Id="rId6" Type="http://schemas.openxmlformats.org/officeDocument/2006/relationships/image" Target="../media/image43.jpeg"/><Relationship Id="rId7" Type="http://schemas.openxmlformats.org/officeDocument/2006/relationships/hyperlink" Target="http://images.google.com/imgres?imgurl=http://www.its.caltech.edu/~atobias/o2molecule.gif&amp;imgrefurl=http://www.its.caltech.edu/~atobias/RUP-p450.html&amp;h=174&amp;w=201&amp;sz=4&amp;tbnid=kWC2dDKI-KkJ:&amp;tbnh=85&amp;tbnw=99&amp;hl=en&amp;start=2&amp;prev=/images%3Fq%3Doxygen%2Bmolecule%26svnum%3D10%26hl%3Den%26lr%3D%26ie%3DUTF-8%26sa%3DN" TargetMode="External"/><Relationship Id="rId8" Type="http://schemas.openxmlformats.org/officeDocument/2006/relationships/image" Target="../media/image44.jpeg"/><Relationship Id="rId9" Type="http://schemas.openxmlformats.org/officeDocument/2006/relationships/hyperlink" Target="http://images.google.com/imgres?imgurl=http://www.emeagwali.com/interviews/national-society-of-black-engineers/national-conference-orlando-florida-2002/nuclear-explosion.gif&amp;imgrefurl=http://emeagwali.com/interviews/national-society-of-black-engineers/national-conference-orlando-florida-2002/all-i-really-need-to-know-i-learned-in-kindergarten/&amp;h=357&amp;w=532&amp;sz=111&amp;tbnid=-q5ceoWhxdwJ:&amp;tbnh=86&amp;tbnw=129&amp;hl=en&amp;start=8&amp;prev=/images%3Fq%3Dnuclear%26svnum%3D10%26hl%3Den%26lr%3D%26ie%3DUTF-8" TargetMode="External"/><Relationship Id="rId10" Type="http://schemas.openxmlformats.org/officeDocument/2006/relationships/image" Target="../media/image45.jpeg"/><Relationship Id="rId11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image" Target="../media/image18.png"/><Relationship Id="rId4" Type="http://schemas.openxmlformats.org/officeDocument/2006/relationships/hyperlink" Target="http://images.google.com/imgres?imgurl=http://www.riverstonebead.com/images/balisilver/SilverMolecule.gif&amp;imgrefurl=http://www.riverstonebead.com/silverbeads.html&amp;h=249&amp;w=251&amp;sz=14&amp;tbnid=Tn5cU3zW3-QJ:&amp;tbnh=105&amp;tbnw=106&amp;hl=en&amp;start=1&amp;prev=/images%3Fq%3Dsilver%2Bmolecule%26svnum%3D10%26hl%3Den%26lr%3D%26ie%3DUTF-8" TargetMode="External"/><Relationship Id="rId5" Type="http://schemas.openxmlformats.org/officeDocument/2006/relationships/image" Target="../media/image47.jpeg"/><Relationship Id="rId6" Type="http://schemas.openxmlformats.org/officeDocument/2006/relationships/hyperlink" Target="http://images.google.com/imgres?imgurl=http://www.molsoft.com/gui/molecule.png&amp;imgrefurl=http://www.molsoft.com/gui/construct.html&amp;h=232&amp;w=405&amp;sz=28&amp;tbnid=znnOUEf_h7cJ:&amp;tbnh=69&amp;tbnw=121&amp;hl=en&amp;start=7&amp;prev=/images%3Fq%3Dcompound%2Bmolecule%26svnum%3D10%26hl%3Den%26lr%3D%26ie%3DUTF-8" TargetMode="External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png"/><Relationship Id="rId9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wmf"/><Relationship Id="rId3" Type="http://schemas.openxmlformats.org/officeDocument/2006/relationships/hyperlink" Target="file:///tmp/home/.config/libreoffice/4/user/gallery/cashreg.wav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fordhamprep.org/gcurran/sho/sho/lessons/lesson14.htm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teacherbridge.cs.vt.edu/public/bhs/teachers/Dana/Matter.html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nobel.scas.bcit.ca/chem0010/unit2/2.4_classMatter_scheme.htm" TargetMode="External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7.gif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13.jpeg"/><Relationship Id="rId7" Type="http://schemas.openxmlformats.org/officeDocument/2006/relationships/hyperlink" Target="http://images.google.com/imgres?imgurl=http://www.racecarpartsdepot.com/images/T-Bird-chute2.jpg&amp;imgrefurl=http://www.racecarpartsdepot.com/&amp;h=387&amp;w=500&amp;sz=190&amp;tbnid=35d3NTc7PicJ:&amp;tbnh=98&amp;tbnw=127&amp;hl=en&amp;start=18&amp;prev=/images%3Fq%3Dcar%26svnum%3D10%26hl%3Den%26lr%3D%26ie%3DUTF-8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propro.ru/go/Wshop/textures/images/concrete.jpg" TargetMode="External"/><Relationship Id="rId10" Type="http://schemas.openxmlformats.org/officeDocument/2006/relationships/image" Target="../media/image15.jpe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" Target="slide2.xml"/><Relationship Id="rId4" Type="http://schemas.openxmlformats.org/officeDocument/2006/relationships/image" Target="../media/image18.png"/><Relationship Id="rId5" Type="http://schemas.openxmlformats.org/officeDocument/2006/relationships/hyperlink" Target="http://images.google.com/imgres?imgurl=http://www.quest.com/japan/quest_central/images/heterogeneous_balls.jpg&amp;imgrefurl=http://www.quest.com/japan/quest_central/&amp;h=408&amp;w=425&amp;sz=25&amp;tbnid=2dwfb94aS4sJ:&amp;tbnh=117&amp;tbnw=122&amp;hl=en&amp;start=5&amp;prev=/images%3Fq%3Dheterogeneous%26svnum%3D10%26hl%3Den%26lr%3D%26ie%3DUTF-8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images.google.com/imgres?imgurl=http://ans.hsh.no/home/gw/public_html/proj/two_phase_flow_images/homogeneous.jpg&amp;imgrefurl=http://ans.hsh.no/home/gw/public_html/proj/two_phase_flow_images/&amp;h=215&amp;w=208&amp;sz=24&amp;tbnid=kfdUEKlDUZcJ:&amp;tbnh=101&amp;tbnw=97&amp;hl=en&amp;start=2&amp;prev=/images%3Fq%3Dhomogeneous%26svnum%3D10%26hl%3Den%26lr%3D%26ie%3DUTF-8" TargetMode="External"/><Relationship Id="rId8" Type="http://schemas.openxmlformats.org/officeDocument/2006/relationships/image" Target="../media/image20.jpeg"/><Relationship Id="rId9" Type="http://schemas.openxmlformats.org/officeDocument/2006/relationships/slide" Target="slide2.xml"/><Relationship Id="rId10" Type="http://schemas.openxmlformats.org/officeDocument/2006/relationships/slide" Target="slide19.xml"/><Relationship Id="rId11" Type="http://schemas.openxmlformats.org/officeDocument/2006/relationships/slide" Target="slide5.xml"/><Relationship Id="rId12" Type="http://schemas.openxmlformats.org/officeDocument/2006/relationships/slide" Target="slide4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hyperlink" Target="http://images.google.com/imgres?imgurl=http://antoine.frostburg.edu/chem/senese/101/matter/images/homogeneous.gif&amp;imgrefurl=http://antoine.frostburg.edu/chem/senese/101/matter/index.shtml&amp;h=62&amp;w=98&amp;sz=3&amp;tbnid=m58d8RO2nLkJ:&amp;tbnh=48&amp;tbnw=77&amp;hl=en&amp;start=48&amp;prev=/images%3Fq%3Dhomogeneous%2Bmixture%26start%3D40%26svnum%3D10%26hl%3Den%26lr%3D%26ie%3DUTF-8%26sa%3DN" TargetMode="External"/><Relationship Id="rId5" Type="http://schemas.openxmlformats.org/officeDocument/2006/relationships/image" Target="../media/image21.jpeg"/><Relationship Id="rId6" Type="http://schemas.openxmlformats.org/officeDocument/2006/relationships/hyperlink" Target="http://images.google.com/imgres?imgurl=http://img.tfd.com/dict/113/753857-solution.jpg&amp;imgrefurl=http://www.thefreedictionary.com/solution&amp;h=128&amp;w=125&amp;sz=10&amp;tbnid=re8O7F2_G-sJ:&amp;tbnh=85&amp;tbnw=83&amp;hl=en&amp;start=49&amp;prev=/images%3Fq%3Dhomogeneous%2Bmixture%26start%3D40%26svnum%3D10%26hl%3Den%26lr%3D%26ie%3DUTF-8%26sa%3DN" TargetMode="External"/><Relationship Id="rId7" Type="http://schemas.openxmlformats.org/officeDocument/2006/relationships/image" Target="../media/image22.jpeg"/><Relationship Id="rId8" Type="http://schemas.openxmlformats.org/officeDocument/2006/relationships/hyperlink" Target="http://images.google.com/imgres?imgurl=http://www.yorktown.k12.in.us/yhs/teachers/clucas/3forchemistryteachers_files/Solution-Precipitate.jpg&amp;imgrefurl=http://www.yorktown.k12.in.us/yhs/teachers/clucas/3forchemistryteachers.htm&amp;h=354&amp;w=353&amp;sz=33&amp;tbnid=FZE-KSi3P6IJ:&amp;tbnh=117&amp;tbnw=116&amp;hl=en&amp;start=8&amp;prev=/images%3Fq%3Dsolution%26svnum%3D10%26hl%3Den%26lr%3D%26ie%3DUTF-8" TargetMode="External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assification of Matt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Self Guided Less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lution (Homogeneous Mixture) Examp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838080" y="1904760"/>
            <a:ext cx="3810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lt wat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800240" y="190476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ras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838080" y="40384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las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800240" y="40384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olutions appear to be one part, but are actually just mixed very wel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">
            <a:hlinkClick r:id="rId5" action="ppaction://hlinksldjump"/>
          </p:cNvPr>
          <p:cNvSpPr/>
          <p:nvPr/>
        </p:nvSpPr>
        <p:spPr>
          <a:xfrm>
            <a:off x="426708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7431"/>
                </a:moveTo>
                <a:lnTo>
                  <a:pt x="13376" y="10042"/>
                </a:ln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lnTo>
                  <a:pt x="17763" y="14394"/>
                </a:lnTo>
                <a:lnTo>
                  <a:pt x="16109" y="14394"/>
                </a:lnTo>
                <a:lnTo>
                  <a:pt x="16109" y="21584"/>
                </a:lnTo>
                <a:lnTo>
                  <a:pt x="5491" y="21584"/>
                </a:lnTo>
                <a:lnTo>
                  <a:pt x="5491" y="14394"/>
                </a:lnTo>
                <a:lnTo>
                  <a:pt x="3837" y="14394"/>
                </a:lnTo>
                <a:close/>
              </a:path>
              <a:path fill="darkenLess" w="21600" h="28789">
                <a:moveTo>
                  <a:pt x="13376" y="10042"/>
                </a:move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close/>
              </a:path>
              <a:path fill="darkenLess" w="21600" h="28789">
                <a:moveTo>
                  <a:pt x="9877" y="17893"/>
                </a:moveTo>
                <a:lnTo>
                  <a:pt x="11723" y="17893"/>
                </a:lnTo>
                <a:lnTo>
                  <a:pt x="11723" y="21584"/>
                </a:lnTo>
                <a:lnTo>
                  <a:pt x="16109" y="21584"/>
                </a:lnTo>
                <a:lnTo>
                  <a:pt x="16109" y="14394"/>
                </a:lnTo>
                <a:lnTo>
                  <a:pt x="5491" y="14394"/>
                </a:lnTo>
                <a:lnTo>
                  <a:pt x="5491" y="21584"/>
                </a:lnTo>
                <a:lnTo>
                  <a:pt x="9877" y="2158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nextslide"/>
          </p:cNvPr>
          <p:cNvSpPr/>
          <p:nvPr/>
        </p:nvSpPr>
        <p:spPr>
          <a:xfrm>
            <a:off x="4724280" y="6248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  <a:path fill="darken" w="21600" h="34519">
                <a:moveTo>
                  <a:pt x="3794" y="10253"/>
                </a:moveTo>
                <a:lnTo>
                  <a:pt x="17806" y="17260"/>
                </a:lnTo>
                <a:lnTo>
                  <a:pt x="3794" y="24266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>
            <a:hlinkClick r:id="" action="ppaction://hlinkshowjump?jump=previousslide"/>
          </p:cNvPr>
          <p:cNvSpPr/>
          <p:nvPr/>
        </p:nvSpPr>
        <p:spPr>
          <a:xfrm>
            <a:off x="388620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7276"/>
                </a:moveTo>
                <a:lnTo>
                  <a:pt x="17806" y="10269"/>
                </a:lnTo>
                <a:lnTo>
                  <a:pt x="17806" y="24282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280" y="28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6"/>
          <a:stretch/>
        </p:blipFill>
        <p:spPr>
          <a:xfrm>
            <a:off x="1219320" y="2362320"/>
            <a:ext cx="2438280" cy="15429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38680" y="2286000"/>
            <a:ext cx="1676520" cy="16002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5181480"/>
            <a:ext cx="1542960" cy="10400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362320" y="4495680"/>
            <a:ext cx="1371600" cy="10638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3"/>
          <a:stretch/>
        </p:blipFill>
        <p:spPr>
          <a:xfrm>
            <a:off x="91440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860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to Dec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426708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7431"/>
                </a:moveTo>
                <a:lnTo>
                  <a:pt x="13376" y="10042"/>
                </a:ln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lnTo>
                  <a:pt x="17763" y="14394"/>
                </a:lnTo>
                <a:lnTo>
                  <a:pt x="16109" y="14394"/>
                </a:lnTo>
                <a:lnTo>
                  <a:pt x="16109" y="21584"/>
                </a:lnTo>
                <a:lnTo>
                  <a:pt x="5491" y="21584"/>
                </a:lnTo>
                <a:lnTo>
                  <a:pt x="5491" y="14394"/>
                </a:lnTo>
                <a:lnTo>
                  <a:pt x="3837" y="14394"/>
                </a:lnTo>
                <a:close/>
              </a:path>
              <a:path fill="darkenLess" w="21600" h="28789">
                <a:moveTo>
                  <a:pt x="13376" y="10042"/>
                </a:move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close/>
              </a:path>
              <a:path fill="darkenLess" w="21600" h="28789">
                <a:moveTo>
                  <a:pt x="9877" y="17893"/>
                </a:moveTo>
                <a:lnTo>
                  <a:pt x="11723" y="17893"/>
                </a:lnTo>
                <a:lnTo>
                  <a:pt x="11723" y="21584"/>
                </a:lnTo>
                <a:lnTo>
                  <a:pt x="16109" y="21584"/>
                </a:lnTo>
                <a:lnTo>
                  <a:pt x="16109" y="14394"/>
                </a:lnTo>
                <a:lnTo>
                  <a:pt x="5491" y="14394"/>
                </a:lnTo>
                <a:lnTo>
                  <a:pt x="5491" y="21584"/>
                </a:lnTo>
                <a:lnTo>
                  <a:pt x="9877" y="2158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4724280" y="6248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  <a:path fill="darken" w="21600" h="34519">
                <a:moveTo>
                  <a:pt x="3794" y="10253"/>
                </a:moveTo>
                <a:lnTo>
                  <a:pt x="17806" y="17260"/>
                </a:lnTo>
                <a:lnTo>
                  <a:pt x="3794" y="24266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388620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7276"/>
                </a:moveTo>
                <a:lnTo>
                  <a:pt x="17806" y="10269"/>
                </a:lnTo>
                <a:lnTo>
                  <a:pt x="17806" y="24282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212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s the matter pure? (YES/NO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5120" y="5867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9920" y="5791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Y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352680"/>
            <a:ext cx="1542960" cy="11541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91520" y="3200400"/>
            <a:ext cx="1542960" cy="1154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6934320" y="457200"/>
            <a:ext cx="190476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89f7"/>
                </a:solidFill>
                <a:uFillTx/>
                <a:latin typeface="Tahoma"/>
                <a:hlinkClick r:id="rId6" action="ppaction://hlinksldjump"/>
              </a:rPr>
              <a:t>Heterogeneous Mixtu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89f7"/>
                </a:solidFill>
                <a:uFillTx/>
                <a:latin typeface="Tahoma"/>
                <a:hlinkClick r:id="rId7" action="ppaction://hlinksldjump"/>
              </a:rPr>
              <a:t>Homogeneous Mixtu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89f7"/>
                </a:solidFill>
                <a:uFillTx/>
                <a:latin typeface="Tahoma"/>
                <a:hlinkClick r:id="rId8" action="ppaction://hlinksldjump"/>
              </a:rPr>
              <a:t>Compound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89f7"/>
                </a:solidFill>
                <a:uFillTx/>
                <a:latin typeface="Tahoma"/>
                <a:hlinkClick r:id="rId9" action="ppaction://hlinksldjump"/>
              </a:rPr>
              <a:t>Element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62120" y="3060720"/>
            <a:ext cx="7772040" cy="2360520"/>
            <a:chOff x="762120" y="3060720"/>
            <a:chExt cx="7772040" cy="2360520"/>
          </a:xfrm>
        </p:grpSpPr>
        <p:cxnSp>
          <p:nvCxnSpPr>
            <p:cNvPr id="306" name="_s13334"/>
            <p:cNvCxnSpPr>
              <a:stCxn id="307" idx="0"/>
              <a:endCxn id="308" idx="2"/>
            </p:cNvCxnSpPr>
            <p:nvPr/>
          </p:nvCxnSpPr>
          <p:spPr>
            <a:xfrm flipV="1" rot="16200000">
              <a:off x="5536440" y="3099600"/>
              <a:ext cx="229320" cy="20073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40458c"/>
              </a:solidFill>
              <a:miter/>
            </a:ln>
          </p:spPr>
        </p:cxnSp>
        <p:cxnSp>
          <p:nvCxnSpPr>
            <p:cNvPr id="309" name="_s13332"/>
            <p:cNvCxnSpPr>
              <a:stCxn id="310" idx="0"/>
              <a:endCxn id="308" idx="2"/>
            </p:cNvCxnSpPr>
            <p:nvPr/>
          </p:nvCxnSpPr>
          <p:spPr>
            <a:xfrm flipH="1" flipV="1" rot="5400000">
              <a:off x="3530880" y="3100680"/>
              <a:ext cx="229320" cy="20059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40458c"/>
              </a:solidFill>
              <a:miter/>
            </a:ln>
          </p:spPr>
        </p:cxnSp>
        <p:sp>
          <p:nvSpPr>
            <p:cNvPr id="308" name="_s13330"/>
            <p:cNvSpPr/>
            <p:nvPr/>
          </p:nvSpPr>
          <p:spPr>
            <a:xfrm>
              <a:off x="2422800" y="3060720"/>
              <a:ext cx="4450680" cy="928800"/>
            </a:xfrm>
            <a:prstGeom prst="rect">
              <a:avLst/>
            </a:prstGeom>
            <a:solidFill>
              <a:srgbClr val="ecd882"/>
            </a:solidFill>
            <a:ln w="1260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</a:rPr>
                <a:t>Homogeneous Matt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</a:rPr>
                <a:t>Has 1 visible par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</a:rPr>
                <a:t>May be physically or chemically combined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_s13331"/>
            <p:cNvSpPr/>
            <p:nvPr/>
          </p:nvSpPr>
          <p:spPr>
            <a:xfrm>
              <a:off x="762120" y="4218120"/>
              <a:ext cx="3761280" cy="1203120"/>
            </a:xfrm>
            <a:prstGeom prst="rect">
              <a:avLst/>
            </a:prstGeom>
            <a:solidFill>
              <a:srgbClr val="ecd882"/>
            </a:solidFill>
            <a:ln w="1260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40458c"/>
                  </a:solidFill>
                  <a:latin typeface="Arial"/>
                </a:rPr>
                <a:t>SOLUTIO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</a:rPr>
                <a:t>(Homogeneous Mixture)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</a:rPr>
                <a:t>Has at least 2 part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</a:rPr>
                <a:t>Can be physically separated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7" name="_s13333"/>
            <p:cNvSpPr/>
            <p:nvPr/>
          </p:nvSpPr>
          <p:spPr>
            <a:xfrm>
              <a:off x="4772880" y="4218120"/>
              <a:ext cx="3761280" cy="1203120"/>
            </a:xfrm>
            <a:prstGeom prst="rect">
              <a:avLst/>
            </a:prstGeom>
            <a:solidFill>
              <a:srgbClr val="ecd882"/>
            </a:solidFill>
            <a:ln w="1260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</a:rPr>
                <a:t>Substanc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</a:rPr>
                <a:t>Has only 1 par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</a:rPr>
                <a:t>Can not be separated physically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81280" y="3886200"/>
              <a:ext cx="2161080" cy="1008000"/>
            </a:xfrm>
            <a:prstGeom prst="rect">
              <a:avLst/>
            </a:prstGeom>
            <a:noFill/>
            <a:ln w="9360">
              <a:solidFill>
                <a:srgbClr val="b7c1eb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Arial"/>
                </a:rPr>
                <a:t>Is the matter pure?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ound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mogeneous matter that is made of more than one type of ato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stant composi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xed rat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u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+ elements in formu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">
            <a:hlinkClick r:id="rId2" action="ppaction://hlinksldjump"/>
          </p:cNvPr>
          <p:cNvSpPr/>
          <p:nvPr/>
        </p:nvSpPr>
        <p:spPr>
          <a:xfrm>
            <a:off x="426708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7431"/>
                </a:moveTo>
                <a:lnTo>
                  <a:pt x="13376" y="10042"/>
                </a:ln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lnTo>
                  <a:pt x="17763" y="14394"/>
                </a:lnTo>
                <a:lnTo>
                  <a:pt x="16109" y="14394"/>
                </a:lnTo>
                <a:lnTo>
                  <a:pt x="16109" y="21584"/>
                </a:lnTo>
                <a:lnTo>
                  <a:pt x="5491" y="21584"/>
                </a:lnTo>
                <a:lnTo>
                  <a:pt x="5491" y="14394"/>
                </a:lnTo>
                <a:lnTo>
                  <a:pt x="3837" y="14394"/>
                </a:lnTo>
                <a:close/>
              </a:path>
              <a:path fill="darkenLess" w="21600" h="28789">
                <a:moveTo>
                  <a:pt x="13376" y="10042"/>
                </a:move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close/>
              </a:path>
              <a:path fill="darkenLess" w="21600" h="28789">
                <a:moveTo>
                  <a:pt x="9877" y="17893"/>
                </a:moveTo>
                <a:lnTo>
                  <a:pt x="11723" y="17893"/>
                </a:lnTo>
                <a:lnTo>
                  <a:pt x="11723" y="21584"/>
                </a:lnTo>
                <a:lnTo>
                  <a:pt x="16109" y="21584"/>
                </a:lnTo>
                <a:lnTo>
                  <a:pt x="16109" y="14394"/>
                </a:lnTo>
                <a:lnTo>
                  <a:pt x="5491" y="14394"/>
                </a:lnTo>
                <a:lnTo>
                  <a:pt x="5491" y="21584"/>
                </a:lnTo>
                <a:lnTo>
                  <a:pt x="9877" y="2158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>
            <a:hlinkClick r:id="" action="ppaction://hlinkshowjump?jump=nextslide"/>
          </p:cNvPr>
          <p:cNvSpPr/>
          <p:nvPr/>
        </p:nvSpPr>
        <p:spPr>
          <a:xfrm>
            <a:off x="4724280" y="6248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  <a:path fill="darken" w="21600" h="34519">
                <a:moveTo>
                  <a:pt x="3794" y="10253"/>
                </a:moveTo>
                <a:lnTo>
                  <a:pt x="17806" y="17260"/>
                </a:lnTo>
                <a:lnTo>
                  <a:pt x="3794" y="24266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>
            <a:hlinkClick r:id="" action="ppaction://hlinkshowjump?jump=previousslide"/>
          </p:cNvPr>
          <p:cNvSpPr/>
          <p:nvPr/>
        </p:nvSpPr>
        <p:spPr>
          <a:xfrm>
            <a:off x="388620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7276"/>
                </a:moveTo>
                <a:lnTo>
                  <a:pt x="17806" y="10269"/>
                </a:lnTo>
                <a:lnTo>
                  <a:pt x="17806" y="24282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4349880"/>
            <a:ext cx="1981080" cy="16095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5"/>
          <a:stretch/>
        </p:blipFill>
        <p:spPr>
          <a:xfrm>
            <a:off x="2895480" y="2514600"/>
            <a:ext cx="2378160" cy="16765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6212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UG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40384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ure wat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04920" y="1828800"/>
            <a:ext cx="2514600" cy="15462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8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858" fill="hold"/>
                                        <p:tgtEl>
                                          <p:spTgt spid="3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ound Examp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38080" y="1904760"/>
            <a:ext cx="3810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able Salt (NaC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800240" y="190476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pounds are pure matter that consists of two or more different elements chemically combin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8080" y="40384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rbon Dioxide (CO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800240" y="40384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lver Nitrate (AgNO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">
            <a:hlinkClick r:id="rId6" action="ppaction://hlinksldjump"/>
          </p:cNvPr>
          <p:cNvSpPr/>
          <p:nvPr/>
        </p:nvSpPr>
        <p:spPr>
          <a:xfrm>
            <a:off x="426708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7431"/>
                </a:moveTo>
                <a:lnTo>
                  <a:pt x="13376" y="10042"/>
                </a:ln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lnTo>
                  <a:pt x="17763" y="14394"/>
                </a:lnTo>
                <a:lnTo>
                  <a:pt x="16109" y="14394"/>
                </a:lnTo>
                <a:lnTo>
                  <a:pt x="16109" y="21584"/>
                </a:lnTo>
                <a:lnTo>
                  <a:pt x="5491" y="21584"/>
                </a:lnTo>
                <a:lnTo>
                  <a:pt x="5491" y="14394"/>
                </a:lnTo>
                <a:lnTo>
                  <a:pt x="3837" y="14394"/>
                </a:lnTo>
                <a:close/>
              </a:path>
              <a:path fill="darkenLess" w="21600" h="28789">
                <a:moveTo>
                  <a:pt x="13376" y="10042"/>
                </a:move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close/>
              </a:path>
              <a:path fill="darkenLess" w="21600" h="28789">
                <a:moveTo>
                  <a:pt x="9877" y="17893"/>
                </a:moveTo>
                <a:lnTo>
                  <a:pt x="11723" y="17893"/>
                </a:lnTo>
                <a:lnTo>
                  <a:pt x="11723" y="21584"/>
                </a:lnTo>
                <a:lnTo>
                  <a:pt x="16109" y="21584"/>
                </a:lnTo>
                <a:lnTo>
                  <a:pt x="16109" y="14394"/>
                </a:lnTo>
                <a:lnTo>
                  <a:pt x="5491" y="14394"/>
                </a:lnTo>
                <a:lnTo>
                  <a:pt x="5491" y="21584"/>
                </a:lnTo>
                <a:lnTo>
                  <a:pt x="9877" y="2158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nextslide"/>
          </p:cNvPr>
          <p:cNvSpPr/>
          <p:nvPr/>
        </p:nvSpPr>
        <p:spPr>
          <a:xfrm>
            <a:off x="4724280" y="6248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  <a:path fill="darken" w="21600" h="34519">
                <a:moveTo>
                  <a:pt x="3794" y="10253"/>
                </a:moveTo>
                <a:lnTo>
                  <a:pt x="17806" y="17260"/>
                </a:lnTo>
                <a:lnTo>
                  <a:pt x="3794" y="24266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>
            <a:hlinkClick r:id="" action="ppaction://hlinkshowjump?jump=previousslide"/>
          </p:cNvPr>
          <p:cNvSpPr/>
          <p:nvPr/>
        </p:nvSpPr>
        <p:spPr>
          <a:xfrm>
            <a:off x="388620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7276"/>
                </a:moveTo>
                <a:lnTo>
                  <a:pt x="17806" y="10269"/>
                </a:lnTo>
                <a:lnTo>
                  <a:pt x="17806" y="24282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3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371600" y="2286000"/>
            <a:ext cx="1727280" cy="18288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6192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3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447920" y="44956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867280" y="4648320"/>
            <a:ext cx="137160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to Dec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533600" y="3032280"/>
          <a:ext cx="6378480" cy="18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3600" y="3032280"/>
                    <a:ext cx="6378480" cy="18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>
            <a:hlinkClick r:id="rId3" action="ppaction://hlinksldjump"/>
          </p:cNvPr>
          <p:cNvSpPr/>
          <p:nvPr/>
        </p:nvSpPr>
        <p:spPr>
          <a:xfrm>
            <a:off x="426708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7431"/>
                </a:moveTo>
                <a:lnTo>
                  <a:pt x="13376" y="10042"/>
                </a:ln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lnTo>
                  <a:pt x="17763" y="14394"/>
                </a:lnTo>
                <a:lnTo>
                  <a:pt x="16109" y="14394"/>
                </a:lnTo>
                <a:lnTo>
                  <a:pt x="16109" y="21584"/>
                </a:lnTo>
                <a:lnTo>
                  <a:pt x="5491" y="21584"/>
                </a:lnTo>
                <a:lnTo>
                  <a:pt x="5491" y="14394"/>
                </a:lnTo>
                <a:lnTo>
                  <a:pt x="3837" y="14394"/>
                </a:lnTo>
                <a:close/>
              </a:path>
              <a:path fill="darkenLess" w="21600" h="28789">
                <a:moveTo>
                  <a:pt x="13376" y="10042"/>
                </a:move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close/>
              </a:path>
              <a:path fill="darkenLess" w="21600" h="28789">
                <a:moveTo>
                  <a:pt x="9877" y="17893"/>
                </a:moveTo>
                <a:lnTo>
                  <a:pt x="11723" y="17893"/>
                </a:lnTo>
                <a:lnTo>
                  <a:pt x="11723" y="21584"/>
                </a:lnTo>
                <a:lnTo>
                  <a:pt x="16109" y="21584"/>
                </a:lnTo>
                <a:lnTo>
                  <a:pt x="16109" y="14394"/>
                </a:lnTo>
                <a:lnTo>
                  <a:pt x="5491" y="14394"/>
                </a:lnTo>
                <a:lnTo>
                  <a:pt x="5491" y="21584"/>
                </a:lnTo>
                <a:lnTo>
                  <a:pt x="9877" y="2158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>
            <a:hlinkClick r:id="" action="ppaction://hlinkshowjump?jump=nextslide"/>
          </p:cNvPr>
          <p:cNvSpPr/>
          <p:nvPr/>
        </p:nvSpPr>
        <p:spPr>
          <a:xfrm>
            <a:off x="4724280" y="6248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  <a:path fill="darken" w="21600" h="34519">
                <a:moveTo>
                  <a:pt x="3794" y="10253"/>
                </a:moveTo>
                <a:lnTo>
                  <a:pt x="17806" y="17260"/>
                </a:lnTo>
                <a:lnTo>
                  <a:pt x="3794" y="24266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>
            <a:hlinkClick r:id="" action="ppaction://hlinkshowjump?jump=previousslide"/>
          </p:cNvPr>
          <p:cNvSpPr/>
          <p:nvPr/>
        </p:nvSpPr>
        <p:spPr>
          <a:xfrm>
            <a:off x="388620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7276"/>
                </a:moveTo>
                <a:lnTo>
                  <a:pt x="17806" y="10269"/>
                </a:lnTo>
                <a:lnTo>
                  <a:pt x="17806" y="24282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3623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s there only 1 type of element? (YES/NO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38280" y="5105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38680" y="5105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Y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4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8080" y="3301920"/>
            <a:ext cx="1067040" cy="8920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0880" y="4114800"/>
            <a:ext cx="1189080" cy="9936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752480" y="2971800"/>
            <a:ext cx="1189080" cy="9936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086600" y="2971800"/>
            <a:ext cx="1268280" cy="12222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6934320" y="457200"/>
            <a:ext cx="190476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89f7"/>
                </a:solidFill>
                <a:uFillTx/>
                <a:latin typeface="Tahoma"/>
                <a:hlinkClick r:id="rId13" action="ppaction://hlinksldjump"/>
              </a:rPr>
              <a:t>Heterogeneous Mixtu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89f7"/>
                </a:solidFill>
                <a:uFillTx/>
                <a:latin typeface="Tahoma"/>
                <a:hlinkClick r:id="rId14" action="ppaction://hlinksldjump"/>
              </a:rPr>
              <a:t>Homogeneous Mixtu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ompound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Element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em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mogeneous matter that consists of only 1 type of ato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stant composi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nly 1 element in formu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426708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7431"/>
                </a:moveTo>
                <a:lnTo>
                  <a:pt x="13376" y="10042"/>
                </a:ln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lnTo>
                  <a:pt x="17763" y="14394"/>
                </a:lnTo>
                <a:lnTo>
                  <a:pt x="16109" y="14394"/>
                </a:lnTo>
                <a:lnTo>
                  <a:pt x="16109" y="21584"/>
                </a:lnTo>
                <a:lnTo>
                  <a:pt x="5491" y="21584"/>
                </a:lnTo>
                <a:lnTo>
                  <a:pt x="5491" y="14394"/>
                </a:lnTo>
                <a:lnTo>
                  <a:pt x="3837" y="14394"/>
                </a:lnTo>
                <a:close/>
              </a:path>
              <a:path fill="darkenLess" w="21600" h="28789">
                <a:moveTo>
                  <a:pt x="13376" y="10042"/>
                </a:move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close/>
              </a:path>
              <a:path fill="darkenLess" w="21600" h="28789">
                <a:moveTo>
                  <a:pt x="9877" y="17893"/>
                </a:moveTo>
                <a:lnTo>
                  <a:pt x="11723" y="17893"/>
                </a:lnTo>
                <a:lnTo>
                  <a:pt x="11723" y="21584"/>
                </a:lnTo>
                <a:lnTo>
                  <a:pt x="16109" y="21584"/>
                </a:lnTo>
                <a:lnTo>
                  <a:pt x="16109" y="14394"/>
                </a:lnTo>
                <a:lnTo>
                  <a:pt x="5491" y="14394"/>
                </a:lnTo>
                <a:lnTo>
                  <a:pt x="5491" y="21584"/>
                </a:lnTo>
                <a:lnTo>
                  <a:pt x="9877" y="2158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>
            <a:hlinkClick r:id="" action="ppaction://hlinkshowjump?jump=nextslide"/>
          </p:cNvPr>
          <p:cNvSpPr/>
          <p:nvPr/>
        </p:nvSpPr>
        <p:spPr>
          <a:xfrm>
            <a:off x="4724280" y="6248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  <a:path fill="darken" w="21600" h="34519">
                <a:moveTo>
                  <a:pt x="3794" y="10253"/>
                </a:moveTo>
                <a:lnTo>
                  <a:pt x="17806" y="17260"/>
                </a:lnTo>
                <a:lnTo>
                  <a:pt x="3794" y="24266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>
            <a:hlinkClick r:id="" action="ppaction://hlinkshowjump?jump=previousslide"/>
          </p:cNvPr>
          <p:cNvSpPr/>
          <p:nvPr/>
        </p:nvSpPr>
        <p:spPr>
          <a:xfrm>
            <a:off x="388620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7276"/>
                </a:moveTo>
                <a:lnTo>
                  <a:pt x="17806" y="10269"/>
                </a:lnTo>
                <a:lnTo>
                  <a:pt x="17806" y="24282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1676520"/>
            <a:ext cx="1828800" cy="13586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09680" y="33526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5257800"/>
            <a:ext cx="1905120" cy="13809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9"/>
          <a:stretch/>
        </p:blipFill>
        <p:spPr>
          <a:xfrm>
            <a:off x="3124080" y="685800"/>
            <a:ext cx="1219320" cy="11970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10"/>
          <a:stretch/>
        </p:blipFill>
        <p:spPr>
          <a:xfrm>
            <a:off x="0" y="266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080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ement Examp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38080" y="1904760"/>
            <a:ext cx="3810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rb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800240" y="190476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xyg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838080" y="40384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ements are pure matter consisting of only one type of ato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800240" y="40384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raniu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426708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7431"/>
                </a:moveTo>
                <a:lnTo>
                  <a:pt x="13376" y="10042"/>
                </a:ln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lnTo>
                  <a:pt x="17763" y="14394"/>
                </a:lnTo>
                <a:lnTo>
                  <a:pt x="16109" y="14394"/>
                </a:lnTo>
                <a:lnTo>
                  <a:pt x="16109" y="21584"/>
                </a:lnTo>
                <a:lnTo>
                  <a:pt x="5491" y="21584"/>
                </a:lnTo>
                <a:lnTo>
                  <a:pt x="5491" y="14394"/>
                </a:lnTo>
                <a:lnTo>
                  <a:pt x="3837" y="14394"/>
                </a:lnTo>
                <a:close/>
              </a:path>
              <a:path fill="darkenLess" w="21600" h="28789">
                <a:moveTo>
                  <a:pt x="13376" y="10042"/>
                </a:move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close/>
              </a:path>
              <a:path fill="darkenLess" w="21600" h="28789">
                <a:moveTo>
                  <a:pt x="9877" y="17893"/>
                </a:moveTo>
                <a:lnTo>
                  <a:pt x="11723" y="17893"/>
                </a:lnTo>
                <a:lnTo>
                  <a:pt x="11723" y="21584"/>
                </a:lnTo>
                <a:lnTo>
                  <a:pt x="16109" y="21584"/>
                </a:lnTo>
                <a:lnTo>
                  <a:pt x="16109" y="14394"/>
                </a:lnTo>
                <a:lnTo>
                  <a:pt x="5491" y="14394"/>
                </a:lnTo>
                <a:lnTo>
                  <a:pt x="5491" y="21584"/>
                </a:lnTo>
                <a:lnTo>
                  <a:pt x="9877" y="2158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4724280" y="6248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  <a:path fill="darken" w="21600" h="34519">
                <a:moveTo>
                  <a:pt x="3794" y="10253"/>
                </a:moveTo>
                <a:lnTo>
                  <a:pt x="17806" y="17260"/>
                </a:lnTo>
                <a:lnTo>
                  <a:pt x="3794" y="24266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>
            <a:hlinkClick r:id="" action="ppaction://hlinkshowjump?jump=previousslide"/>
          </p:cNvPr>
          <p:cNvSpPr/>
          <p:nvPr/>
        </p:nvSpPr>
        <p:spPr>
          <a:xfrm>
            <a:off x="388620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7276"/>
                </a:moveTo>
                <a:lnTo>
                  <a:pt x="17806" y="10269"/>
                </a:lnTo>
                <a:lnTo>
                  <a:pt x="17806" y="24282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6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43000" y="2362320"/>
            <a:ext cx="1752480" cy="14983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57800" y="2286000"/>
            <a:ext cx="1752480" cy="15048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442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7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57800" y="4495680"/>
            <a:ext cx="2514600" cy="1675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to Dec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838080" y="2824200"/>
          <a:ext cx="777240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24200"/>
                    <a:ext cx="777240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426708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7431"/>
                </a:moveTo>
                <a:lnTo>
                  <a:pt x="13376" y="10042"/>
                </a:ln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lnTo>
                  <a:pt x="17763" y="14394"/>
                </a:lnTo>
                <a:lnTo>
                  <a:pt x="16109" y="14394"/>
                </a:lnTo>
                <a:lnTo>
                  <a:pt x="16109" y="21584"/>
                </a:lnTo>
                <a:lnTo>
                  <a:pt x="5491" y="21584"/>
                </a:lnTo>
                <a:lnTo>
                  <a:pt x="5491" y="14394"/>
                </a:lnTo>
                <a:lnTo>
                  <a:pt x="3837" y="14394"/>
                </a:lnTo>
                <a:close/>
              </a:path>
              <a:path fill="darkenLess" w="21600" h="28789">
                <a:moveTo>
                  <a:pt x="13376" y="10042"/>
                </a:move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close/>
              </a:path>
              <a:path fill="darkenLess" w="21600" h="28789">
                <a:moveTo>
                  <a:pt x="9877" y="17893"/>
                </a:moveTo>
                <a:lnTo>
                  <a:pt x="11723" y="17893"/>
                </a:lnTo>
                <a:lnTo>
                  <a:pt x="11723" y="21584"/>
                </a:lnTo>
                <a:lnTo>
                  <a:pt x="16109" y="21584"/>
                </a:lnTo>
                <a:lnTo>
                  <a:pt x="16109" y="14394"/>
                </a:lnTo>
                <a:lnTo>
                  <a:pt x="5491" y="14394"/>
                </a:lnTo>
                <a:lnTo>
                  <a:pt x="5491" y="21584"/>
                </a:lnTo>
                <a:lnTo>
                  <a:pt x="9877" y="2158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4724280" y="6248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  <a:path fill="darken" w="21600" h="34519">
                <a:moveTo>
                  <a:pt x="3794" y="10253"/>
                </a:moveTo>
                <a:lnTo>
                  <a:pt x="17806" y="17260"/>
                </a:lnTo>
                <a:lnTo>
                  <a:pt x="3794" y="24266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>
            <a:hlinkClick r:id="" action="ppaction://hlinkshowjump?jump=previousslide"/>
          </p:cNvPr>
          <p:cNvSpPr/>
          <p:nvPr/>
        </p:nvSpPr>
        <p:spPr>
          <a:xfrm>
            <a:off x="388620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7276"/>
                </a:moveTo>
                <a:lnTo>
                  <a:pt x="17806" y="10269"/>
                </a:lnTo>
                <a:lnTo>
                  <a:pt x="17806" y="24282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13372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19920" y="5181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Y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94320" y="2286000"/>
            <a:ext cx="63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s there only 1 type of element? (YES/NO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8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162920" y="2435400"/>
            <a:ext cx="1676160" cy="16603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2819520"/>
            <a:ext cx="2133720" cy="12175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6934320" y="457200"/>
            <a:ext cx="1904760" cy="14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Heterogeneous Mixtu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Homogeneous Mixtu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ompound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Element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895120" y="12952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Big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cture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(click 3 times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7431"/>
                </a:moveTo>
                <a:lnTo>
                  <a:pt x="13376" y="10042"/>
                </a:ln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lnTo>
                  <a:pt x="17763" y="14394"/>
                </a:lnTo>
                <a:lnTo>
                  <a:pt x="16109" y="14394"/>
                </a:lnTo>
                <a:lnTo>
                  <a:pt x="16109" y="21584"/>
                </a:lnTo>
                <a:lnTo>
                  <a:pt x="5491" y="21584"/>
                </a:lnTo>
                <a:lnTo>
                  <a:pt x="5491" y="14394"/>
                </a:lnTo>
                <a:lnTo>
                  <a:pt x="3837" y="14394"/>
                </a:lnTo>
                <a:close/>
              </a:path>
              <a:path fill="darkenLess" w="21600" h="28789">
                <a:moveTo>
                  <a:pt x="13376" y="10042"/>
                </a:move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close/>
              </a:path>
              <a:path fill="darkenLess" w="21600" h="28789">
                <a:moveTo>
                  <a:pt x="9877" y="17893"/>
                </a:moveTo>
                <a:lnTo>
                  <a:pt x="11723" y="17893"/>
                </a:lnTo>
                <a:lnTo>
                  <a:pt x="11723" y="21584"/>
                </a:lnTo>
                <a:lnTo>
                  <a:pt x="16109" y="21584"/>
                </a:lnTo>
                <a:lnTo>
                  <a:pt x="16109" y="14394"/>
                </a:lnTo>
                <a:lnTo>
                  <a:pt x="5491" y="14394"/>
                </a:lnTo>
                <a:lnTo>
                  <a:pt x="5491" y="21584"/>
                </a:lnTo>
                <a:lnTo>
                  <a:pt x="9877" y="2158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previousslide"/>
          </p:cNvPr>
          <p:cNvSpPr/>
          <p:nvPr/>
        </p:nvSpPr>
        <p:spPr>
          <a:xfrm>
            <a:off x="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7276"/>
                </a:moveTo>
                <a:lnTo>
                  <a:pt x="17806" y="10269"/>
                </a:lnTo>
                <a:lnTo>
                  <a:pt x="17806" y="24282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2743200" y="5410080"/>
          <a:ext cx="6400800" cy="8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5410080"/>
                    <a:ext cx="6400800" cy="8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2438280" y="3429000"/>
          <a:ext cx="4953240" cy="10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429000"/>
                    <a:ext cx="495324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609480" y="0"/>
          <a:ext cx="5105520" cy="112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0"/>
                    <a:ext cx="510552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0" y="1981080"/>
          <a:ext cx="6477120" cy="70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1981080"/>
                    <a:ext cx="647712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"/>
          <p:cNvSpPr/>
          <p:nvPr/>
        </p:nvSpPr>
        <p:spPr>
          <a:xfrm flipH="1">
            <a:off x="4267080" y="4419720"/>
            <a:ext cx="1371600" cy="9903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629400" y="4419720"/>
            <a:ext cx="1143000" cy="9903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895480" y="2666880"/>
            <a:ext cx="1524240" cy="7621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81480" y="2666880"/>
            <a:ext cx="1295640" cy="7621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838080" y="1143000"/>
            <a:ext cx="1447920" cy="8380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09880" y="1143000"/>
            <a:ext cx="1067040" cy="8380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45960" y="4419720"/>
            <a:ext cx="46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s there only 1 type of element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65640" y="266688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s the matter pure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362600" y="1066680"/>
            <a:ext cx="38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 you see only one part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0968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82680" y="1523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Y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778160" y="4952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Y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330240" y="30481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Y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5105520"/>
            <a:ext cx="1905120" cy="14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Heterogeneous Mixtu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Homogeneous Mixtu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ompound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Element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8080" y="6248520"/>
            <a:ext cx="1371600" cy="609480"/>
          </a:xfrm>
          <a:custGeom>
            <a:avLst/>
            <a:gdLst>
              <a:gd name="textAreaLeft" fmla="*/ 39240 w 1371600"/>
              <a:gd name="textAreaRight" fmla="*/ 1332360 w 1371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8594" h="21600">
                <a:moveTo>
                  <a:pt x="0" y="0"/>
                </a:moveTo>
                <a:lnTo>
                  <a:pt x="48594" y="0"/>
                </a:lnTo>
                <a:lnTo>
                  <a:pt x="48594" y="21600"/>
                </a:lnTo>
                <a:lnTo>
                  <a:pt x="0" y="21600"/>
                </a:lnTo>
                <a:close/>
              </a:path>
              <a:path fill="lightenLess" w="48594" h="21600">
                <a:moveTo>
                  <a:pt x="0" y="0"/>
                </a:moveTo>
                <a:lnTo>
                  <a:pt x="48594" y="0"/>
                </a:lnTo>
                <a:lnTo>
                  <a:pt x="47194" y="1400"/>
                </a:lnTo>
                <a:lnTo>
                  <a:pt x="1400" y="1400"/>
                </a:lnTo>
                <a:close/>
              </a:path>
              <a:path fill="darken" w="48594" h="21600">
                <a:moveTo>
                  <a:pt x="48594" y="0"/>
                </a:moveTo>
                <a:lnTo>
                  <a:pt x="48594" y="21600"/>
                </a:lnTo>
                <a:lnTo>
                  <a:pt x="47194" y="20200"/>
                </a:lnTo>
                <a:lnTo>
                  <a:pt x="47194" y="1400"/>
                </a:lnTo>
                <a:close/>
              </a:path>
              <a:path fill="darkenLess" w="48594" h="21600">
                <a:moveTo>
                  <a:pt x="48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94" y="20200"/>
                </a:lnTo>
                <a:close/>
              </a:path>
              <a:path fill="lighten" w="48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iz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088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7431"/>
                </a:moveTo>
                <a:lnTo>
                  <a:pt x="13376" y="10042"/>
                </a:ln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lnTo>
                  <a:pt x="17763" y="14394"/>
                </a:lnTo>
                <a:lnTo>
                  <a:pt x="16109" y="14394"/>
                </a:lnTo>
                <a:lnTo>
                  <a:pt x="16109" y="21584"/>
                </a:lnTo>
                <a:lnTo>
                  <a:pt x="5491" y="21584"/>
                </a:lnTo>
                <a:lnTo>
                  <a:pt x="5491" y="14394"/>
                </a:lnTo>
                <a:lnTo>
                  <a:pt x="3837" y="14394"/>
                </a:lnTo>
                <a:close/>
              </a:path>
              <a:path fill="darkenLess" w="21600" h="28789">
                <a:moveTo>
                  <a:pt x="13376" y="10042"/>
                </a:move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close/>
              </a:path>
              <a:path fill="darkenLess" w="21600" h="28789">
                <a:moveTo>
                  <a:pt x="9877" y="17893"/>
                </a:moveTo>
                <a:lnTo>
                  <a:pt x="11723" y="17893"/>
                </a:lnTo>
                <a:lnTo>
                  <a:pt x="11723" y="21584"/>
                </a:lnTo>
                <a:lnTo>
                  <a:pt x="16109" y="21584"/>
                </a:lnTo>
                <a:lnTo>
                  <a:pt x="16109" y="14394"/>
                </a:lnTo>
                <a:lnTo>
                  <a:pt x="5491" y="14394"/>
                </a:lnTo>
                <a:lnTo>
                  <a:pt x="5491" y="21584"/>
                </a:lnTo>
                <a:lnTo>
                  <a:pt x="9877" y="2158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>
            <a:hlinkClick r:id="" action="ppaction://hlinkshowjump?jump=previousslide"/>
          </p:cNvPr>
          <p:cNvSpPr/>
          <p:nvPr/>
        </p:nvSpPr>
        <p:spPr>
          <a:xfrm>
            <a:off x="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7276"/>
                </a:moveTo>
                <a:lnTo>
                  <a:pt x="17806" y="10269"/>
                </a:lnTo>
                <a:lnTo>
                  <a:pt x="17806" y="24282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384200" y="0"/>
          <a:ext cx="7400880" cy="799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4200" y="0"/>
                    <a:ext cx="7400880" cy="799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">
            <a:hlinkClick r:id="rId3"/>
          </p:cNvPr>
          <p:cNvSpPr/>
          <p:nvPr/>
        </p:nvSpPr>
        <p:spPr>
          <a:xfrm>
            <a:off x="838080" y="62485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nswer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es of Matt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eterogeneous Mixtu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omogeneous Mixtu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ound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en you’re ready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Quiz Yourself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12970" t="15630" r="55784" b="20207"/>
          <a:stretch/>
        </p:blipFill>
        <p:spPr>
          <a:xfrm>
            <a:off x="301680" y="3809880"/>
            <a:ext cx="1828800" cy="2816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28600" y="35812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References &amp; Resourc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rcRect l="14845" t="32657" r="68237" b="41309"/>
          <a:stretch/>
        </p:blipFill>
        <p:spPr>
          <a:xfrm>
            <a:off x="7315200" y="5257800"/>
            <a:ext cx="990720" cy="1143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086600" y="49528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Meet the Autho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1981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2743200" y="236520"/>
          <a:ext cx="5886360" cy="637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36520"/>
                    <a:ext cx="5886360" cy="63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>
            <a:hlinkClick r:id="rId3"/>
          </p:cNvPr>
          <p:cNvSpPr/>
          <p:nvPr/>
        </p:nvSpPr>
        <p:spPr>
          <a:xfrm>
            <a:off x="457200" y="2133720"/>
            <a:ext cx="1447920" cy="1371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1360" y="1752480"/>
            <a:ext cx="15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’m Read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4920" y="4572000"/>
            <a:ext cx="1981080" cy="1447920"/>
          </a:xfrm>
          <a:prstGeom prst="cloudCallout">
            <a:avLst>
              <a:gd name="adj1" fmla="val -43990"/>
              <a:gd name="adj2" fmla="val 93203"/>
            </a:avLst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1021"/>
                </a:solidFill>
                <a:latin typeface="Tahoma"/>
              </a:rPr>
              <a:t>I’ll Practice Mo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o Helped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dison Wesley Chemistry (p. 8-15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ee Clipart Junc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ttp://www.cksinfo.com/index2.htm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oogle.com image searc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eath Chemistry (p. 39-49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crosoft Office Onli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ttp://office.microsoft.com/clipart/default.aspx?lc=en-u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6"/>
          <a:srcRect l="12970" t="15630" r="55784" b="54862"/>
          <a:stretch/>
        </p:blipFill>
        <p:spPr>
          <a:xfrm>
            <a:off x="6172200" y="533520"/>
            <a:ext cx="1828800" cy="1295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7"/>
          <a:srcRect l="12970" t="46880" r="55784" b="20207"/>
          <a:stretch/>
        </p:blipFill>
        <p:spPr>
          <a:xfrm>
            <a:off x="-228600" y="5413320"/>
            <a:ext cx="1828800" cy="14446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5181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Online resourc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ourc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mmary and Practi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www.fordhamprep.org/gcurran/sho/sho/lessons/lesson14.ht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ew and Practi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teacherbridge.cs.vt.edu/public/bhs/teachers/Dana/Matter.htm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ternative Classification Sche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http://nobel.scas.bcit.ca/chem0010/unit2/2.4_classMatter_scheme.ht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previousslide"/>
          </p:cNvPr>
          <p:cNvSpPr/>
          <p:nvPr/>
        </p:nvSpPr>
        <p:spPr>
          <a:xfrm>
            <a:off x="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12152"/>
                </a:moveTo>
                <a:lnTo>
                  <a:pt x="17806" y="5145"/>
                </a:lnTo>
                <a:lnTo>
                  <a:pt x="17806" y="19158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7"/>
          <a:stretch/>
        </p:blipFill>
        <p:spPr>
          <a:xfrm>
            <a:off x="5791320" y="304920"/>
            <a:ext cx="1904760" cy="2079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295280" y="61722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iz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o Am I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hemistry Teach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ensics Teach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lder Brother (12, 22, 28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echnology coa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aseball Coa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cience Fair Advis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hemistry Club Spons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5867280" y="4800600"/>
            <a:ext cx="2264040" cy="10746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6477120" y="2362320"/>
            <a:ext cx="1295280" cy="18651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1"/>
          <a:stretch/>
        </p:blipFill>
        <p:spPr>
          <a:xfrm>
            <a:off x="4952880" y="304920"/>
            <a:ext cx="2286000" cy="17161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6708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7431"/>
                </a:moveTo>
                <a:lnTo>
                  <a:pt x="13376" y="10042"/>
                </a:ln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lnTo>
                  <a:pt x="17763" y="14394"/>
                </a:lnTo>
                <a:lnTo>
                  <a:pt x="16109" y="14394"/>
                </a:lnTo>
                <a:lnTo>
                  <a:pt x="16109" y="21584"/>
                </a:lnTo>
                <a:lnTo>
                  <a:pt x="5491" y="21584"/>
                </a:lnTo>
                <a:lnTo>
                  <a:pt x="5491" y="14394"/>
                </a:lnTo>
                <a:lnTo>
                  <a:pt x="3837" y="14394"/>
                </a:lnTo>
                <a:close/>
              </a:path>
              <a:path fill="darkenLess" w="21600" h="28789">
                <a:moveTo>
                  <a:pt x="13376" y="10042"/>
                </a:move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close/>
              </a:path>
              <a:path fill="darkenLess" w="21600" h="28789">
                <a:moveTo>
                  <a:pt x="9877" y="17893"/>
                </a:moveTo>
                <a:lnTo>
                  <a:pt x="11723" y="17893"/>
                </a:lnTo>
                <a:lnTo>
                  <a:pt x="11723" y="21584"/>
                </a:lnTo>
                <a:lnTo>
                  <a:pt x="16109" y="21584"/>
                </a:lnTo>
                <a:lnTo>
                  <a:pt x="16109" y="14394"/>
                </a:lnTo>
                <a:lnTo>
                  <a:pt x="5491" y="14394"/>
                </a:lnTo>
                <a:lnTo>
                  <a:pt x="5491" y="21584"/>
                </a:lnTo>
                <a:lnTo>
                  <a:pt x="9877" y="2158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388620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7276"/>
                </a:moveTo>
                <a:lnTo>
                  <a:pt x="17806" y="10269"/>
                </a:lnTo>
                <a:lnTo>
                  <a:pt x="17806" y="24282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724280" y="6248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  <a:path fill="darken" w="21600" h="34519">
                <a:moveTo>
                  <a:pt x="3794" y="10253"/>
                </a:moveTo>
                <a:lnTo>
                  <a:pt x="17806" y="17260"/>
                </a:lnTo>
                <a:lnTo>
                  <a:pt x="3794" y="24266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eterogeneous Mixtu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ype of matter consisting of at least two parts physically combin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isible par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arying composi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mpur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hysically separab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">
            <a:hlinkClick r:id="rId2" action="ppaction://hlinksldjump"/>
          </p:cNvPr>
          <p:cNvSpPr/>
          <p:nvPr/>
        </p:nvSpPr>
        <p:spPr>
          <a:xfrm>
            <a:off x="426708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7431"/>
                </a:moveTo>
                <a:lnTo>
                  <a:pt x="13376" y="10042"/>
                </a:ln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lnTo>
                  <a:pt x="17763" y="14394"/>
                </a:lnTo>
                <a:lnTo>
                  <a:pt x="16109" y="14394"/>
                </a:lnTo>
                <a:lnTo>
                  <a:pt x="16109" y="21584"/>
                </a:lnTo>
                <a:lnTo>
                  <a:pt x="5491" y="21584"/>
                </a:lnTo>
                <a:lnTo>
                  <a:pt x="5491" y="14394"/>
                </a:lnTo>
                <a:lnTo>
                  <a:pt x="3837" y="14394"/>
                </a:lnTo>
                <a:close/>
              </a:path>
              <a:path fill="darkenLess" w="21600" h="28789">
                <a:moveTo>
                  <a:pt x="13376" y="10042"/>
                </a:move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close/>
              </a:path>
              <a:path fill="darkenLess" w="21600" h="28789">
                <a:moveTo>
                  <a:pt x="9877" y="17893"/>
                </a:moveTo>
                <a:lnTo>
                  <a:pt x="11723" y="17893"/>
                </a:lnTo>
                <a:lnTo>
                  <a:pt x="11723" y="21584"/>
                </a:lnTo>
                <a:lnTo>
                  <a:pt x="16109" y="21584"/>
                </a:lnTo>
                <a:lnTo>
                  <a:pt x="16109" y="14394"/>
                </a:lnTo>
                <a:lnTo>
                  <a:pt x="5491" y="14394"/>
                </a:lnTo>
                <a:lnTo>
                  <a:pt x="5491" y="21584"/>
                </a:lnTo>
                <a:lnTo>
                  <a:pt x="9877" y="2158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4724280" y="6248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  <a:path fill="darken" w="21600" h="34519">
                <a:moveTo>
                  <a:pt x="3794" y="10253"/>
                </a:moveTo>
                <a:lnTo>
                  <a:pt x="17806" y="17260"/>
                </a:lnTo>
                <a:lnTo>
                  <a:pt x="3794" y="24266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>
            <a:hlinkClick r:id="" action="ppaction://hlinkshowjump?jump=previousslide"/>
          </p:cNvPr>
          <p:cNvSpPr/>
          <p:nvPr/>
        </p:nvSpPr>
        <p:spPr>
          <a:xfrm>
            <a:off x="388620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7276"/>
                </a:moveTo>
                <a:lnTo>
                  <a:pt x="17806" y="10269"/>
                </a:lnTo>
                <a:lnTo>
                  <a:pt x="17806" y="24282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2880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429000" y="3048120"/>
            <a:ext cx="1189080" cy="18507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75248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1447920" y="4343400"/>
            <a:ext cx="1349280" cy="2133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228600" y="1981080"/>
            <a:ext cx="2514600" cy="2293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eterogeneous Mixture Examp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1904760"/>
            <a:ext cx="3810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r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800240" y="190476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eterogeneous mixtures have more than one visible par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38080" y="40384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cret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800240" y="40384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">
            <a:hlinkClick r:id="rId5" action="ppaction://hlinksldjump"/>
          </p:cNvPr>
          <p:cNvSpPr/>
          <p:nvPr/>
        </p:nvSpPr>
        <p:spPr>
          <a:xfrm>
            <a:off x="426708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7431"/>
                </a:moveTo>
                <a:lnTo>
                  <a:pt x="13376" y="10042"/>
                </a:ln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lnTo>
                  <a:pt x="17763" y="14394"/>
                </a:lnTo>
                <a:lnTo>
                  <a:pt x="16109" y="14394"/>
                </a:lnTo>
                <a:lnTo>
                  <a:pt x="16109" y="21584"/>
                </a:lnTo>
                <a:lnTo>
                  <a:pt x="5491" y="21584"/>
                </a:lnTo>
                <a:lnTo>
                  <a:pt x="5491" y="14394"/>
                </a:lnTo>
                <a:lnTo>
                  <a:pt x="3837" y="14394"/>
                </a:lnTo>
                <a:close/>
              </a:path>
              <a:path fill="darkenLess" w="21600" h="28789">
                <a:moveTo>
                  <a:pt x="13376" y="10042"/>
                </a:move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close/>
              </a:path>
              <a:path fill="darkenLess" w="21600" h="28789">
                <a:moveTo>
                  <a:pt x="9877" y="17893"/>
                </a:moveTo>
                <a:lnTo>
                  <a:pt x="11723" y="17893"/>
                </a:lnTo>
                <a:lnTo>
                  <a:pt x="11723" y="21584"/>
                </a:lnTo>
                <a:lnTo>
                  <a:pt x="16109" y="21584"/>
                </a:lnTo>
                <a:lnTo>
                  <a:pt x="16109" y="14394"/>
                </a:lnTo>
                <a:lnTo>
                  <a:pt x="5491" y="14394"/>
                </a:lnTo>
                <a:lnTo>
                  <a:pt x="5491" y="21584"/>
                </a:lnTo>
                <a:lnTo>
                  <a:pt x="9877" y="2158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4724280" y="6248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  <a:path fill="darken" w="21600" h="34519">
                <a:moveTo>
                  <a:pt x="3794" y="10253"/>
                </a:moveTo>
                <a:lnTo>
                  <a:pt x="17806" y="17260"/>
                </a:lnTo>
                <a:lnTo>
                  <a:pt x="3794" y="24266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388620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7276"/>
                </a:moveTo>
                <a:lnTo>
                  <a:pt x="17806" y="10269"/>
                </a:lnTo>
                <a:lnTo>
                  <a:pt x="17806" y="24282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1981080" y="228600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10080" y="4572000"/>
            <a:ext cx="2133720" cy="16477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057400" y="4572000"/>
            <a:ext cx="2133720" cy="14479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1"/>
          <a:stretch/>
        </p:blipFill>
        <p:spPr>
          <a:xfrm>
            <a:off x="75438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449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to Dec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68240" y="3375000"/>
          <a:ext cx="7740720" cy="19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3375000"/>
                    <a:ext cx="7740720" cy="19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>
            <a:hlinkClick r:id="rId3" action="ppaction://hlinksldjump"/>
          </p:cNvPr>
          <p:cNvSpPr/>
          <p:nvPr/>
        </p:nvSpPr>
        <p:spPr>
          <a:xfrm>
            <a:off x="426708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7431"/>
                </a:moveTo>
                <a:lnTo>
                  <a:pt x="13376" y="10042"/>
                </a:ln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lnTo>
                  <a:pt x="17763" y="14394"/>
                </a:lnTo>
                <a:lnTo>
                  <a:pt x="16109" y="14394"/>
                </a:lnTo>
                <a:lnTo>
                  <a:pt x="16109" y="21584"/>
                </a:lnTo>
                <a:lnTo>
                  <a:pt x="5491" y="21584"/>
                </a:lnTo>
                <a:lnTo>
                  <a:pt x="5491" y="14394"/>
                </a:lnTo>
                <a:lnTo>
                  <a:pt x="3837" y="14394"/>
                </a:lnTo>
                <a:close/>
              </a:path>
              <a:path fill="darkenLess" w="21600" h="28789">
                <a:moveTo>
                  <a:pt x="13376" y="10042"/>
                </a:move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close/>
              </a:path>
              <a:path fill="darkenLess" w="21600" h="28789">
                <a:moveTo>
                  <a:pt x="9877" y="17893"/>
                </a:moveTo>
                <a:lnTo>
                  <a:pt x="11723" y="17893"/>
                </a:lnTo>
                <a:lnTo>
                  <a:pt x="11723" y="21584"/>
                </a:lnTo>
                <a:lnTo>
                  <a:pt x="16109" y="21584"/>
                </a:lnTo>
                <a:lnTo>
                  <a:pt x="16109" y="14394"/>
                </a:lnTo>
                <a:lnTo>
                  <a:pt x="5491" y="14394"/>
                </a:lnTo>
                <a:lnTo>
                  <a:pt x="5491" y="21584"/>
                </a:lnTo>
                <a:lnTo>
                  <a:pt x="9877" y="2158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4724280" y="6248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  <a:path fill="darken" w="21600" h="34519">
                <a:moveTo>
                  <a:pt x="3794" y="10253"/>
                </a:moveTo>
                <a:lnTo>
                  <a:pt x="17806" y="17260"/>
                </a:lnTo>
                <a:lnTo>
                  <a:pt x="3794" y="24266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388620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7276"/>
                </a:moveTo>
                <a:lnTo>
                  <a:pt x="17806" y="10269"/>
                </a:lnTo>
                <a:lnTo>
                  <a:pt x="17806" y="24282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2057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 you see only one part? (YES/NO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5257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19920" y="5257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Y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2971800"/>
            <a:ext cx="1523880" cy="14619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473960" y="2971800"/>
            <a:ext cx="1463760" cy="14479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934320" y="457200"/>
            <a:ext cx="190476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89f7"/>
                </a:solidFill>
                <a:uFillTx/>
                <a:latin typeface="Tahoma"/>
                <a:hlinkClick r:id="rId9" action="ppaction://hlinksldjump"/>
              </a:rPr>
              <a:t>Heterogeneous Mixtu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89f7"/>
                </a:solidFill>
                <a:uFillTx/>
                <a:latin typeface="Tahoma"/>
                <a:hlinkClick r:id="rId10" action="ppaction://hlinksldjump"/>
              </a:rPr>
              <a:t>Homogeneous Mixtu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89f7"/>
                </a:solidFill>
                <a:uFillTx/>
                <a:latin typeface="Tahoma"/>
                <a:hlinkClick r:id="rId11" action="ppaction://hlinksldjump"/>
              </a:rPr>
              <a:t>Compound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89f7"/>
                </a:solidFill>
                <a:uFillTx/>
                <a:latin typeface="Tahoma"/>
                <a:hlinkClick r:id="rId12" action="ppaction://hlinksldjump"/>
              </a:rPr>
              <a:t>Element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mogeneous Mixtu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tter that is uniform throughou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ferred to as a Solu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 visible part (uniform distributio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stant composi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ven distribution of partic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">
            <a:hlinkClick r:id="rId3" action="ppaction://hlinksldjump"/>
          </p:cNvPr>
          <p:cNvSpPr/>
          <p:nvPr/>
        </p:nvSpPr>
        <p:spPr>
          <a:xfrm>
            <a:off x="426708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7431"/>
                </a:moveTo>
                <a:lnTo>
                  <a:pt x="13376" y="10042"/>
                </a:ln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lnTo>
                  <a:pt x="17763" y="14394"/>
                </a:lnTo>
                <a:lnTo>
                  <a:pt x="16109" y="14394"/>
                </a:lnTo>
                <a:lnTo>
                  <a:pt x="16109" y="21584"/>
                </a:lnTo>
                <a:lnTo>
                  <a:pt x="5491" y="21584"/>
                </a:lnTo>
                <a:lnTo>
                  <a:pt x="5491" y="14394"/>
                </a:lnTo>
                <a:lnTo>
                  <a:pt x="3837" y="14394"/>
                </a:lnTo>
                <a:close/>
              </a:path>
              <a:path fill="darkenLess" w="21600" h="28789">
                <a:moveTo>
                  <a:pt x="13376" y="10042"/>
                </a:moveTo>
                <a:lnTo>
                  <a:pt x="13376" y="8302"/>
                </a:lnTo>
                <a:lnTo>
                  <a:pt x="15152" y="8302"/>
                </a:lnTo>
                <a:lnTo>
                  <a:pt x="15152" y="11818"/>
                </a:lnTo>
                <a:close/>
              </a:path>
              <a:path fill="darkenLess" w="21600" h="28789">
                <a:moveTo>
                  <a:pt x="9877" y="17893"/>
                </a:moveTo>
                <a:lnTo>
                  <a:pt x="11723" y="17893"/>
                </a:lnTo>
                <a:lnTo>
                  <a:pt x="11723" y="21584"/>
                </a:lnTo>
                <a:lnTo>
                  <a:pt x="16109" y="21584"/>
                </a:lnTo>
                <a:lnTo>
                  <a:pt x="16109" y="14394"/>
                </a:lnTo>
                <a:lnTo>
                  <a:pt x="5491" y="14394"/>
                </a:lnTo>
                <a:lnTo>
                  <a:pt x="5491" y="21584"/>
                </a:lnTo>
                <a:lnTo>
                  <a:pt x="9877" y="21584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4724280" y="6248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  <a:path fill="darken" w="21600" h="34519">
                <a:moveTo>
                  <a:pt x="3794" y="10253"/>
                </a:moveTo>
                <a:lnTo>
                  <a:pt x="17806" y="17260"/>
                </a:lnTo>
                <a:lnTo>
                  <a:pt x="3794" y="24266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>
            <a:off x="388620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7276"/>
                </a:moveTo>
                <a:lnTo>
                  <a:pt x="17806" y="10269"/>
                </a:lnTo>
                <a:lnTo>
                  <a:pt x="17806" y="24282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14400" y="1828800"/>
            <a:ext cx="1981080" cy="12366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66880" y="3352680"/>
            <a:ext cx="1470240" cy="15051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>
            <a:hlinkClick r:id="rId8"/>
          </p:cNvPr>
          <p:cNvPicPr/>
          <p:nvPr/>
        </p:nvPicPr>
        <p:blipFill>
          <a:blip r:embed="rId9"/>
          <a:srcRect l="28543" t="15924" r="28674" b="32817"/>
          <a:stretch/>
        </p:blipFill>
        <p:spPr>
          <a:xfrm>
            <a:off x="685800" y="4038480"/>
            <a:ext cx="1828800" cy="2210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17:19:02Z</dcterms:created>
  <dc:creator>Twin Valley School District</dc:creator>
  <dc:description/>
  <dc:language>en-US</dc:language>
  <cp:lastModifiedBy>udsd</cp:lastModifiedBy>
  <dcterms:modified xsi:type="dcterms:W3CDTF">2009-09-11T14:13:45Z</dcterms:modified>
  <cp:revision>43</cp:revision>
  <dc:subject/>
  <dc:title>Classification of Matter</dc:title>
</cp:coreProperties>
</file>